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5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38EE-6265-404A-9F83-C7953B7DF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3B76-BB0C-4C1D-948F-AAA30BBE01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680D-27B3-4101-B9A4-E63980AC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D28-0BEE-4E44-84C9-B7DD1DE9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331-ACB1-41CB-ABEA-4EB737B5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377D-F4C5-4FFE-9349-25D501B1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B66E-3347-496A-82F0-DE5C03A7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EF75-1501-4BC7-867E-1C40C063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FEB1-476D-4235-8762-39EEDC0F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4D19-3983-4549-AA47-C77EB1D2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A23E-087B-4913-8258-CE7EA518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0204-6D83-4450-915E-4D571074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AAD4-5974-4DFE-AE67-D6862162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126-5D06-47AD-A482-9AD33692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B2CF-364A-4B36-80F5-D9032BCC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CBF1-5747-4226-BE4D-FA81A323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6662-40AB-4CFA-9739-FC525F9E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CEC2-4EC1-4F38-A44A-6CAC2107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1EBE-35C7-4A8D-866E-3783D6C9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EB8D3-DE4A-4D4B-AF38-CAA12A51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32804-F102-46FD-A74D-5E94E5E0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40A54-E0A7-4F96-A088-B22CBFDA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96891-1204-440A-996D-D027989E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0BC29-C95E-4921-BB67-B59CB8DC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EC29-E0CB-4628-ADDC-76F69ECF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618DE-20BA-4B60-B6D4-A71CEA91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4D14B-695B-4944-8EF8-4B8A0B9F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059FE-1BB5-463B-BB5E-489A0123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5992D-1138-4ECC-9F81-F065FA56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A5CF6-511A-4F8A-BAA4-F3EF3426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28BB8-A5CC-4FA2-8340-928526D1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DB11E-0563-4AFA-B8C2-BD347575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D252D-AEDC-4248-892D-C9708D2E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32EFE-51D4-4B1E-807C-8E7E4C23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91BDF-3129-4E55-A3D6-F18005FC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211-8028-469A-88AB-3BDB591A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DBE5D-EFF8-42ED-8C2B-8A49D92A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646B7-1046-47D8-A878-672F4F92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FC8E7-E829-48F3-A78E-234F0048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E5B1D-6034-4D7D-877C-B1554220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C11E5-7253-4BCA-9A1C-C5D8C537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456FA-1A2D-4220-AF85-B811B935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AD706-1A95-4B3D-87B2-088F6129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8EE42-0A74-446B-BB3E-98F5417B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2DFAD-8A2F-451C-AC02-9758DA1D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3FA-9BB2-463F-8D37-1731588A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65D-9E01-402B-9029-8C366342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E253-8669-4BDB-89A9-F2A62379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185-2FBD-4E48-A2A4-18300A00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0E3-D924-4691-ACEC-18B794BF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756D-CB76-4A76-871E-3BF41CC87EF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4B56-1D3A-4CD5-9D37-47ABBDDA465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46B0-75ED-44E2-8C0F-DE7F352D8D4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66D2-4539-43C6-82AE-FA2CF5E96FA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E6B5-6E7B-4BC3-A52F-86FED634857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87F7-E0F0-4049-B47B-4FBC726608E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0689-7160-416C-A9C3-C42CEAF20EDD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C841-6805-4F21-A28E-E8C177EC652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CTIVE TRANSPOR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BD6F-55E3-4C0D-8DF0-7A793D1B175C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ENDOCYTOSI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99F3-1E20-47AF-9CDB-58CA71B7CA31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6" name="Picture 0" descr="FG05_10bp"/>
          <p:cNvPicPr/>
          <p:nvPr/>
        </p:nvPicPr>
        <p:blipFill>
          <a:blip r:embed="rId1"/>
          <a:srcRect l="0" t="0" r="0" b="4699"/>
          <a:stretch/>
        </p:blipFill>
        <p:spPr>
          <a:xfrm>
            <a:off x="1523880" y="1644480"/>
            <a:ext cx="63183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PINOCYTOSI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0C4E-4D19-4388-ABB8-A508693FB6CF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ingestion of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liquid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and its dissolved contents into a cell by the budding of small vesicles from the cell membra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ost common form of endocytos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inocytosis takes up most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protein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and other large molecul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ften called “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ellular drinking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0" name="Picture 2" descr="FG05_10a"/>
          <p:cNvPicPr/>
          <p:nvPr/>
        </p:nvPicPr>
        <p:blipFill>
          <a:blip r:embed="rId1"/>
          <a:srcRect l="0" t="0" r="0" b="22277"/>
          <a:stretch/>
        </p:blipFill>
        <p:spPr>
          <a:xfrm>
            <a:off x="2209680" y="4038480"/>
            <a:ext cx="51818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RECEPTOR-MEDIATED ENDOCYTOSI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126B-DD51-4BA9-AA59-D0F2BDA41B52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pecific molecules are taken in after they bind to a recepto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ighly specific due to the use of receptor protei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4" name="Picture 2" descr="FG05_10b"/>
          <p:cNvPicPr/>
          <p:nvPr/>
        </p:nvPicPr>
        <p:blipFill>
          <a:blip r:embed="rId1"/>
          <a:srcRect l="773" t="6586" r="0" b="29942"/>
          <a:stretch/>
        </p:blipFill>
        <p:spPr>
          <a:xfrm>
            <a:off x="609480" y="3489480"/>
            <a:ext cx="757404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PHAGOCYTOSI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3797-1041-44FC-B379-46AE4EB43809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480" y="1600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Large, solid particles are ingested into the cell through the folding in of the cell membra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ften called “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ellular eating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8" name="Picture 9" descr="FG05_10c"/>
          <p:cNvPicPr/>
          <p:nvPr/>
        </p:nvPicPr>
        <p:blipFill>
          <a:blip r:embed="rId1"/>
          <a:srcRect l="0" t="6551" r="0" b="35942"/>
          <a:stretch/>
        </p:blipFill>
        <p:spPr>
          <a:xfrm>
            <a:off x="198360" y="3147840"/>
            <a:ext cx="89154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EXOCYTOSI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91F7-873B-4299-8839-ADB6D144D36F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xocytosis - Molecules ar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moved out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f the cell by vesicles that fuse with the cell membra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ormones are released and nerve cells communicate with each other through exocytos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2" name="Picture 6" descr="FG05_09a"/>
          <p:cNvPicPr/>
          <p:nvPr/>
        </p:nvPicPr>
        <p:blipFill>
          <a:blip r:embed="rId1"/>
          <a:srcRect l="0" t="0" r="3150" b="7422"/>
          <a:stretch/>
        </p:blipFill>
        <p:spPr>
          <a:xfrm>
            <a:off x="2362320" y="3800520"/>
            <a:ext cx="46479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EXOCYTOSI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21DB-AAE9-4D6F-AB30-F9459F1B239A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25" name="Group 0"/>
          <p:cNvGrpSpPr/>
          <p:nvPr/>
        </p:nvGrpSpPr>
        <p:grpSpPr>
          <a:xfrm>
            <a:off x="1828800" y="1676520"/>
            <a:ext cx="5410080" cy="4802040"/>
            <a:chOff x="1828800" y="1676520"/>
            <a:chExt cx="5410080" cy="4802040"/>
          </a:xfrm>
        </p:grpSpPr>
        <p:pic>
          <p:nvPicPr>
            <p:cNvPr id="226" name="Picture 3" descr="FG05_09b"/>
            <p:cNvPicPr/>
            <p:nvPr/>
          </p:nvPicPr>
          <p:blipFill>
            <a:blip r:embed="rId1"/>
            <a:srcRect l="0" t="8113" r="0" b="6872"/>
            <a:stretch/>
          </p:blipFill>
          <p:spPr>
            <a:xfrm>
              <a:off x="1828800" y="1676520"/>
              <a:ext cx="5410080" cy="48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2"/>
            <p:cNvSpPr/>
            <p:nvPr/>
          </p:nvSpPr>
          <p:spPr>
            <a:xfrm>
              <a:off x="5138280" y="1728360"/>
              <a:ext cx="2049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b"/>
                  </a:solidFill>
                  <a:latin typeface="Comic Sans MS"/>
                </a:rPr>
                <a:t>Exocytic vesicle immediately after fusion with plasma membrane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 flipH="1">
              <a:off x="4501800" y="2215440"/>
              <a:ext cx="636480" cy="669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ENDOCYTOSIS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rcRect l="0" t="0" r="8323" b="3875"/>
          <a:stretch/>
        </p:blipFill>
        <p:spPr>
          <a:xfrm>
            <a:off x="3722760" y="1371600"/>
            <a:ext cx="3159000" cy="53341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1088280" y="191268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hagocytosi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087920" y="3809160"/>
            <a:ext cx="20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inocytosi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04920" y="55159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ceptor-mediate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ndocytosi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CTIVE TRANSPOR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Active transport – movement of molecules through a membrane that requires the cell to use </a:t>
            </a:r>
            <a:r>
              <a:rPr b="1" lang="en-US" sz="2200" spc="-1" strike="noStrike">
                <a:solidFill>
                  <a:srgbClr val="ff0000"/>
                </a:solidFill>
                <a:latin typeface="Arial Narrow"/>
              </a:rPr>
              <a:t>energy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Molecules move against a </a:t>
            </a:r>
            <a:r>
              <a:rPr b="1" lang="en-US" sz="2200" spc="-1" strike="noStrike">
                <a:solidFill>
                  <a:srgbClr val="ff0000"/>
                </a:solidFill>
                <a:latin typeface="Arial Narrow"/>
              </a:rPr>
              <a:t>concentration gradient 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(Low concentration to high concentration)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Requires energy in the form of </a:t>
            </a:r>
            <a:r>
              <a:rPr b="1" lang="en-US" sz="2200" spc="-1" strike="noStrike">
                <a:solidFill>
                  <a:srgbClr val="ff0000"/>
                </a:solidFill>
                <a:latin typeface="Arial Narrow"/>
              </a:rPr>
              <a:t>ATP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Like pedaling uphill on a bik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Types of active transport in cells: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Pumps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Endocytosis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Exocytosis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84EE-CFCD-44FB-946D-1CC4C6B372CB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TP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ATP – short for adenosine triphospha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ATP is a compound used by cells to store and release energy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Sometimes called the </a:t>
            </a:r>
            <a:r>
              <a:rPr b="1" lang="en-US" sz="2200" spc="-1" strike="noStrike">
                <a:solidFill>
                  <a:srgbClr val="ff0000"/>
                </a:solidFill>
                <a:latin typeface="Arial Narrow"/>
              </a:rPr>
              <a:t>currency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of the cell because the cell must make and spend ATP to surviv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When energy is needed by the cell, ATP molecules are </a:t>
            </a:r>
            <a:r>
              <a:rPr b="1" lang="en-US" sz="2200" spc="-1" strike="noStrike">
                <a:solidFill>
                  <a:srgbClr val="ff0000"/>
                </a:solidFill>
                <a:latin typeface="Arial Narrow"/>
              </a:rPr>
              <a:t>consumed 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and turned into ADP (adenosine diphosphate). This releases energy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When we eat food, the energy is converted into a form the cell can use by the </a:t>
            </a:r>
            <a:r>
              <a:rPr b="1" lang="en-US" sz="2200" spc="-1" strike="noStrike">
                <a:solidFill>
                  <a:srgbClr val="ff0000"/>
                </a:solidFill>
                <a:latin typeface="Arial Narrow"/>
              </a:rPr>
              <a:t>mitochondria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The mitochondria uses a complex system of reactions to turn ADP back into ATP for the cell to us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9D95-42E8-434A-8B4D-A399AD32FB22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PROTEIN PUMP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9480" y="16002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ump solutes or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ion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from areas of low concentration to areas of high concentr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quire energy in the form of ATP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umping action is created by changing 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hap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of the protei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A44F-AAE6-4D77-885A-BA41ADBD32E2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514600" y="3611520"/>
            <a:ext cx="436248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SODIUM-POTASSIUM PUMP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pecific type of protein pump that moves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odium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) out of the cell and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Potassium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(K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) into the cel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uring each cycle, 3 sodium atoms are moved out and 2 potassium atoms are moved into the cel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TP energy is used to change 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hap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of the protein, causing the pumping ac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mportant for nerve impulses and muscle contro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E09E-CB80-4ADB-A30D-1EF8FBF6F9D4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676520" y="1752480"/>
            <a:ext cx="5409720" cy="3504960"/>
            <a:chOff x="1676520" y="1752480"/>
            <a:chExt cx="5409720" cy="3504960"/>
          </a:xfrm>
        </p:grpSpPr>
        <p:pic>
          <p:nvPicPr>
            <p:cNvPr id="190" name="Picture 3" descr="channel"/>
            <p:cNvPicPr/>
            <p:nvPr/>
          </p:nvPicPr>
          <p:blipFill>
            <a:blip r:embed="rId1"/>
            <a:stretch/>
          </p:blipFill>
          <p:spPr>
            <a:xfrm>
              <a:off x="1771560" y="1911600"/>
              <a:ext cx="5314680" cy="33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4"/>
            <p:cNvSpPr/>
            <p:nvPr/>
          </p:nvSpPr>
          <p:spPr>
            <a:xfrm>
              <a:off x="1676520" y="1752480"/>
              <a:ext cx="1328400" cy="350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SODIUM-POTASSIUM PUMP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SODIUM-POTASSIUM PUMP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F32C-2497-4409-B4B8-AA6530440B41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286000" y="1569960"/>
            <a:ext cx="458136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ENDOCYTOSIS AND EXOCYTOSI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ndocytosis and exocytosis allow the passage of particles that are too big to pass through 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ell membrane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r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protein channel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70D9-872F-4833-9859-2D06ED073CAE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9" name="Picture 4" descr="endocytosis"/>
          <p:cNvPicPr/>
          <p:nvPr/>
        </p:nvPicPr>
        <p:blipFill>
          <a:blip r:embed="rId1"/>
          <a:stretch/>
        </p:blipFill>
        <p:spPr>
          <a:xfrm>
            <a:off x="2209680" y="2895480"/>
            <a:ext cx="48769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ENDOCYTOSI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FDCC-D42C-43D6-AEC3-3FA9F8138384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09480" y="1599840"/>
            <a:ext cx="79250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Endocytosi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– transporting large molecules into a cell by the folding in of the cell membra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3 types of endocytos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inocytos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ceptor-mediated endocytos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hagocytos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3" name="Picture 7" descr="endocyctosis"/>
          <p:cNvPicPr/>
          <p:nvPr/>
        </p:nvPicPr>
        <p:blipFill>
          <a:blip r:embed="rId1"/>
          <a:stretch/>
        </p:blipFill>
        <p:spPr>
          <a:xfrm>
            <a:off x="4343400" y="3886200"/>
            <a:ext cx="44956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00:01:06Z</dcterms:created>
  <dc:creator>Ben</dc:creator>
  <dc:description/>
  <dc:language>en-US</dc:language>
  <cp:lastModifiedBy>Ben</cp:lastModifiedBy>
  <dcterms:modified xsi:type="dcterms:W3CDTF">2012-10-14T22:59:15Z</dcterms:modified>
  <cp:revision>23</cp:revision>
  <dc:subject/>
  <dc:title>Passive Transport</dc:title>
</cp:coreProperties>
</file>